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9160" y="812520"/>
            <a:ext cx="5319720" cy="39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0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dt" idx="16"/>
          </p:nvPr>
        </p:nvSpPr>
        <p:spPr>
          <a:xfrm>
            <a:off x="4279680" y="-360"/>
            <a:ext cx="32605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7"/>
          </p:nvPr>
        </p:nvSpPr>
        <p:spPr>
          <a:xfrm>
            <a:off x="0" y="10154880"/>
            <a:ext cx="3260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8"/>
          </p:nvPr>
        </p:nvSpPr>
        <p:spPr>
          <a:xfrm>
            <a:off x="4279680" y="10154880"/>
            <a:ext cx="32605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FD0C1C28-2845-42D4-AC9B-F94314819834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1789A3B4-3DF0-4FEB-A56C-56B3E4D53EBF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8AB0B9C4-79E6-45C8-989F-86D36BC046D4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69322B39-7B1F-4C31-B6C6-539D279377AF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E2B8BB87-8988-499E-9CE6-9DC27CC256B3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9A761478-E766-4E2D-A7E5-BB9CB9CBF33C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DF57826C-A167-4C08-A2A9-22DDBB12EEF5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8EDC5DD8-9FB4-4273-962E-83B675A6A0F3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7DAF5CFC-F8DA-47E6-A3CF-E92E79DFBB1A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5304029E-EC0B-4F74-B8D9-77DE681AEFC9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C213BE3F-0DCE-4D61-94C4-2FED32FE6B37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C8C7CA3C-C092-421F-A02F-C12705776CC0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8990CF9C-2E11-4F6C-9B66-C8A40239580F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C3FFB88A-4033-4783-92B3-B0E0FD4FF083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E5F60091-BC90-422E-B161-6B595CBEAE8A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7B0896B8-4097-4B6A-99B4-D66BA23948D5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7"/>
          <p:cNvSpPr/>
          <p:nvPr/>
        </p:nvSpPr>
        <p:spPr>
          <a:xfrm>
            <a:off x="4280040" y="10155240"/>
            <a:ext cx="3260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351081A2-07FD-41CF-A88D-EDAA19380329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220-C80A-4166-8860-93B02B27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6DE-83E1-4987-A5DD-C257076F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B44-9B84-4E4A-898A-9D4CF007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A1A-C0A1-42F9-B120-DC163B09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27FD-7541-458B-8596-74F24E29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6589-5377-4EDC-9C0B-C0E5046B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0990-76DE-4551-A0E1-706259C9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3438-2976-47BA-A575-F52F5DAE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CAC7-F11B-406B-90A2-DE93320B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2307-6EE8-496D-992A-587B921D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F835-26AD-4DBD-85EF-07E9EE0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193-F60F-4500-8E8D-B933A3DF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CBC4-D20F-44DD-9116-190028C2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71DC-7EEC-4183-90B7-3BC8931C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2290-8BE9-41CB-893C-92501B66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E2C6-2BFA-44A9-B95D-71213E46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1B32-663A-4678-8824-36882872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2589-4622-4625-B998-F01E1A49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50CB-7E54-4968-B203-F69EE5D0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ADF9E-7481-412E-853B-FAAFE6B4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1586-5370-4E48-A969-B50A2C01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6F20-CAD1-416A-9FC2-7D22E76A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D17-B06C-4315-A57F-8324F496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AF6E-A281-4B3A-A580-266234FD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FA59-4106-4238-9F14-70E242B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8EA9-150D-4246-8A8A-179DFF1D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AFD9-2CBE-4128-B48F-9FA31999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D181-B51C-42F5-B7F9-228801E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D9F1-ABE3-44B1-94F0-22254028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8024B-BF64-4103-BC7C-62C335AD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4120B-471C-4410-8160-428FA0BE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132C-B636-46CD-B5A4-0ED093EC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BCDD7-5F06-43FB-B081-F350253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CA0-FEC6-4183-8566-168C0F47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2760A-C86C-4F51-A1F8-73421EBA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6D19-E190-40B8-8B36-EFE09DB1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2EE44-9FB2-4D1B-B7B9-C4C8BEA1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A17B-120E-463C-984D-B82BE46B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5510-DF0E-4DF2-91C9-C2C226A4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C957-DC12-4015-A7EF-4420F39D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5068-8B68-440E-A410-D061D30F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86397-C02A-479B-9464-7CCEB742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5AA1-2356-4B62-9393-5860A551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C475-FFD9-4ACE-A7C2-8891266F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1AA-D3FA-469F-96BE-98BBD276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A6228-BE7C-4EC0-B9DF-17F9A0E0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F8FA-697E-49C2-B881-E4FFBF7C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7281A-2D65-4A4A-930C-09D41BDB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BDAD-F9F9-4B8D-9B9E-4F325687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BC95-1FCD-4027-8C09-CB392905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842E-144A-44F0-B0F6-99BC133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2A656-D532-4966-A6BF-3DC05A06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1988E-4DFA-42FA-B00F-ED708DA3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FCF8F-C509-465E-923E-8FB7D9D6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A8A69-227B-447B-A69B-73F08B63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CBE-C5E6-4435-B6F6-DA2E8AF5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05379-5205-41B1-A380-0B9547C3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F89-9BCD-49F4-A1E7-EC78F141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D0B-A996-4BF4-AC30-E00AE60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800-E81A-44B6-92C1-3D29D6A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57200" y="476280"/>
            <a:ext cx="9167760" cy="6057720"/>
            <a:chOff x="457200" y="476280"/>
            <a:chExt cx="9167760" cy="605772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60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98600" y="515880"/>
              <a:ext cx="9083520" cy="59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fi-FI" sz="11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BF2C857-A01F-429B-AFDF-E5E34953554F}" type="slidenum">
              <a:rPr b="0" lang="fi-FI" sz="11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57200" y="476280"/>
            <a:ext cx="9167760" cy="3436920"/>
            <a:chOff x="457200" y="476280"/>
            <a:chExt cx="9167760" cy="343692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07960" y="523800"/>
              <a:ext cx="9064800" cy="33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fi-FI" sz="11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DF4E6DB-3EC1-4F5A-9133-BF9415CABC18}" type="slidenum">
              <a:rPr b="0" lang="fi-FI" sz="11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57200" y="476280"/>
            <a:ext cx="9167760" cy="4797360"/>
            <a:chOff x="457200" y="476280"/>
            <a:chExt cx="9167760" cy="47973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90680" y="507960"/>
              <a:ext cx="9099360" cy="47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fi-FI" sz="11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A25EFA6-C402-4FDD-8A0E-D9A7995C0AA5}" type="slidenum">
              <a:rPr b="0" lang="fi-FI" sz="11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fi-FI" sz="11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8790F8F-A96C-4CB5-B36E-83F7321ABA45}" type="slidenum">
              <a:rPr b="0" lang="fi-FI" sz="11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7056360" y="477720"/>
            <a:ext cx="2562480" cy="47880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fi-FI" sz="11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30D33A1-D281-461C-ADDC-5DA69B8ADBEE}" type="slidenum">
              <a:rPr b="0" lang="fi-FI" sz="11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sefulenglish.ru/grammar/modal-verbs-introduction" TargetMode="External"/><Relationship Id="rId2" Type="http://schemas.openxmlformats.org/officeDocument/2006/relationships/hyperlink" Target="http://study-english.info/exercises-modal.php" TargetMode="External"/><Relationship Id="rId3" Type="http://schemas.openxmlformats.org/officeDocument/2006/relationships/hyperlink" Target="http://lingua-source.com/wp-content/uploads/2011/06/modal1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611360" y="1636200"/>
            <a:ext cx="6811920" cy="30718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4840" bIns="50400" anchor="t">
            <a:normAutofit/>
          </a:bodyPr>
          <a:p>
            <a:pPr marL="341280" indent="-323640" algn="ctr">
              <a:lnSpc>
                <a:spcPct val="9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резентация с упражнениями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к уроку английского язы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 algn="ctr">
              <a:lnSpc>
                <a:spcPct val="9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 теме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 «Modal verbs»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9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9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9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397320" y="4923000"/>
            <a:ext cx="422100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Учитель английского язы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МАОУ СОШ № 36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. Тамб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обанова Светлана Игор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39280" y="1136160"/>
            <a:ext cx="9069480" cy="17146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8080" bIns="50400" anchor="t">
            <a:normAutofit/>
          </a:bodyPr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You … take an umbrella today. The Sun is shining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96680" y="3137040"/>
            <a:ext cx="276588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need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must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can’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39280" y="1350720"/>
            <a:ext cx="9069480" cy="150012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8080" bIns="50400" anchor="t">
            <a:normAutofit fontScale="92000"/>
          </a:bodyPr>
          <a:p>
            <a:pPr marL="313920" indent="-29772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I’m sorry, you didn’t invite me to your birthday party. You … invite me next tim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3920" indent="-29772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53040" y="3208320"/>
            <a:ext cx="272484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m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need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000" y="1065240"/>
            <a:ext cx="9069480" cy="157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8080" bIns="50400" anchor="t">
            <a:normAutofit/>
          </a:bodyPr>
          <a:p>
            <a:pPr marL="341280" indent="-323640"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Well, it’s 10 o’clock. I  …  go now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509040" y="2779560"/>
            <a:ext cx="244116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ha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mu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68000" y="1494000"/>
            <a:ext cx="9069480" cy="135720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8080" bIns="50400" anchor="t">
            <a:normAutofit/>
          </a:bodyPr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You  …  smoke so muc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511560" y="2922480"/>
            <a:ext cx="291384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a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hould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5440" y="1422360"/>
            <a:ext cx="9212400" cy="12146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8080" bIns="50400" anchor="t">
            <a:normAutofit/>
          </a:bodyPr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We have got plenty of time. We  … hurry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510840" y="2922480"/>
            <a:ext cx="272160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m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need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85104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е ответы: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9640" y="1708200"/>
            <a:ext cx="9033120" cy="228600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; 2. a; 3. c; 4. a; 5. b; 6. a; 7. b; 8. c; 9. c; 10. b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39280" y="9932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7640" bIns="50400" anchor="t">
            <a:normAutofit/>
          </a:bodyPr>
          <a:p>
            <a:pPr marL="291960" indent="-291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тернет-источник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Модальные глаголы: Введение. Сайт Useful English.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usefulenglish.ru/grammar/modal-verbs-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Упражнения по теме "Вспомогательные глаголы" (с ответами).  Образовательный ресурс englishdom.com.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study-english.info/exercises-modal.ph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чники иллюстрац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альные глаголы: 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lingua-source.com/wp-content/uploads/2011/06/modal1.jp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3510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al verbs are: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430200" indent="-304920">
              <a:spcBef>
                <a:spcPts val="275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30200" indent="-304920">
              <a:spcBef>
                <a:spcPts val="275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30200" indent="-304920">
              <a:spcBef>
                <a:spcPts val="275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30200" indent="-304920">
              <a:spcBef>
                <a:spcPts val="275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30200" indent="-304920" algn="just">
              <a:spcBef>
                <a:spcPts val="275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900000" y="1979640"/>
            <a:ext cx="1619280" cy="72072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fi-FI" sz="4000" spc="-1" strike="noStrike">
                <a:solidFill>
                  <a:srgbClr val="c5000b"/>
                </a:solidFill>
                <a:latin typeface="Times New Roman"/>
                <a:ea typeface="DejaVu Sans"/>
              </a:rPr>
              <a:t>c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060720" y="1979640"/>
            <a:ext cx="1800360" cy="72072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fi-FI" sz="4000" spc="-1" strike="noStrike">
                <a:solidFill>
                  <a:srgbClr val="c5000b"/>
                </a:solidFill>
                <a:latin typeface="Times New Roman"/>
                <a:ea typeface="DejaVu Sans"/>
              </a:rPr>
              <a:t>cou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580000" y="1979640"/>
            <a:ext cx="1440000" cy="72072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fi-FI" sz="4000" spc="-1" strike="noStrike">
                <a:solidFill>
                  <a:srgbClr val="c5000b"/>
                </a:solidFill>
                <a:latin typeface="Times New Roman"/>
                <a:ea typeface="DejaVu Sans"/>
              </a:rPr>
              <a:t>w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7559640" y="1979640"/>
            <a:ext cx="198108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4000" spc="-1" strike="noStrike">
                <a:solidFill>
                  <a:srgbClr val="c90016"/>
                </a:solidFill>
                <a:latin typeface="Times New Roman"/>
                <a:ea typeface="DejaVu Sans"/>
              </a:rPr>
              <a:t>ought 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00000" y="3419640"/>
            <a:ext cx="161928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4000" spc="-1" strike="noStrike">
                <a:solidFill>
                  <a:srgbClr val="c90016"/>
                </a:solidFill>
                <a:latin typeface="Arial"/>
                <a:ea typeface="DejaVu Sans"/>
              </a:rPr>
              <a:t>  </a:t>
            </a:r>
            <a:r>
              <a:rPr b="1" lang="ru-RU" sz="4000" spc="-1" strike="noStrike">
                <a:solidFill>
                  <a:srgbClr val="c90016"/>
                </a:solidFill>
                <a:latin typeface="Times New Roman"/>
                <a:ea typeface="DejaVu Sans"/>
              </a:rPr>
              <a:t>m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060720" y="3419640"/>
            <a:ext cx="1800360" cy="72072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4000" spc="-1" strike="noStrike">
                <a:solidFill>
                  <a:srgbClr val="c90016"/>
                </a:solidFill>
                <a:latin typeface="Arial"/>
                <a:ea typeface="DejaVu Sans"/>
              </a:rPr>
              <a:t>  </a:t>
            </a:r>
            <a:r>
              <a:rPr b="1" lang="ru-RU" sz="4000" spc="-1" strike="noStrike">
                <a:solidFill>
                  <a:srgbClr val="c90016"/>
                </a:solidFill>
                <a:latin typeface="Times New Roman"/>
                <a:ea typeface="DejaVu Sans"/>
              </a:rPr>
              <a:t>m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580000" y="3419640"/>
            <a:ext cx="161928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4000" spc="-1" strike="noStrike">
                <a:solidFill>
                  <a:srgbClr val="c90016"/>
                </a:solidFill>
                <a:latin typeface="Arial"/>
                <a:ea typeface="DejaVu Sans"/>
              </a:rPr>
              <a:t> </a:t>
            </a:r>
            <a:r>
              <a:rPr b="1" lang="ru-RU" sz="4000" spc="-1" strike="noStrike">
                <a:solidFill>
                  <a:srgbClr val="c90016"/>
                </a:solidFill>
                <a:latin typeface="Times New Roman"/>
                <a:ea typeface="DejaVu Sans"/>
              </a:rPr>
              <a:t>sh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7559640" y="3419640"/>
            <a:ext cx="198108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fi-FI" sz="4000" spc="-1" strike="noStrike">
                <a:solidFill>
                  <a:srgbClr val="c5000b"/>
                </a:solidFill>
                <a:latin typeface="Times New Roman"/>
                <a:ea typeface="DejaVu Sans"/>
              </a:rPr>
              <a:t>shou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900000" y="4680000"/>
            <a:ext cx="270036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4000" spc="-1" strike="noStrike">
                <a:solidFill>
                  <a:srgbClr val="c90016"/>
                </a:solidFill>
                <a:latin typeface="Times New Roman"/>
                <a:ea typeface="DejaVu Sans"/>
              </a:rPr>
              <a:t>had be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4319640" y="4680000"/>
            <a:ext cx="216036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4000" spc="-1" strike="noStrike">
                <a:solidFill>
                  <a:srgbClr val="c90016"/>
                </a:solidFill>
                <a:latin typeface="Arial"/>
                <a:ea typeface="DejaVu Sans"/>
              </a:rPr>
              <a:t>  </a:t>
            </a:r>
            <a:r>
              <a:rPr b="1" lang="ru-RU" sz="4000" spc="-1" strike="noStrike">
                <a:solidFill>
                  <a:srgbClr val="c90016"/>
                </a:solidFill>
                <a:latin typeface="Times New Roman"/>
                <a:ea typeface="DejaVu Sans"/>
              </a:rPr>
              <a:t>wou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7199280" y="4680000"/>
            <a:ext cx="216072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4000" spc="-1" strike="noStrike">
                <a:solidFill>
                  <a:srgbClr val="c90016"/>
                </a:solidFill>
                <a:latin typeface="Arial"/>
                <a:ea typeface="DejaVu Sans"/>
              </a:rPr>
              <a:t>  </a:t>
            </a:r>
            <a:r>
              <a:rPr b="1" lang="ru-RU" sz="4000" spc="-1" strike="noStrike">
                <a:solidFill>
                  <a:srgbClr val="c90016"/>
                </a:solidFill>
                <a:latin typeface="Times New Roman"/>
                <a:ea typeface="DejaVu Sans"/>
              </a:rPr>
              <a:t>m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611280" y="5813280"/>
            <a:ext cx="89294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ey have the same form in all persons. They come before the subjects in questions and take «not» after them in negations. They take an infinitiv without «to» after  th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5440" y="1851120"/>
            <a:ext cx="9215280" cy="73800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3040" bIns="50400" anchor="t">
            <a:normAutofit fontScale="90000"/>
          </a:bodyPr>
          <a:p>
            <a:pPr marL="262440" indent="-262440" algn="just">
              <a:spcBef>
                <a:spcPts val="2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odal verbs express the speaker's attitude to the action indicated by the main ver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039680" y="2700360"/>
            <a:ext cx="8001000" cy="48592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"/>
          <p:cNvSpPr/>
          <p:nvPr/>
        </p:nvSpPr>
        <p:spPr>
          <a:xfrm>
            <a:off x="468360" y="779400"/>
            <a:ext cx="921528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0" rIns="100800" tIns="23040" bIns="50400" anchor="t">
            <a:noAutofit/>
          </a:bodyPr>
          <a:p>
            <a:pPr marL="322200" indent="-32220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al verbs are auxiliary verbs that express ability, necessity, request, permission, advice, desire, probability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1280" y="636120"/>
            <a:ext cx="4425840" cy="59295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5840" bIns="50400" anchor="t">
            <a:normAutofit/>
          </a:bodyPr>
          <a:p>
            <a:pPr marL="412920" indent="-308160">
              <a:spcBef>
                <a:spcPts val="275"/>
              </a:spcBef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She can drive. (abilit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I must go. (strong necessit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You should call him. (advi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Could you help me with this report, please? (reque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You may stay here. (permiss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I would like to see her. (desir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He might leave soon. (possibilit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He must be at the tennis club now. (strong probabilit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254560" y="565200"/>
            <a:ext cx="4425840" cy="576720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5840" bIns="50400" anchor="t">
            <a:normAutofit/>
          </a:bodyPr>
          <a:p>
            <a:pPr marL="412920" indent="-308160">
              <a:spcBef>
                <a:spcPts val="275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Она может водить машину. (способно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Я должен идти. (большая необходимо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Вам следует позвонить ему. (сове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Вы не могли бы мне помочь с этим докладом, пожалуйста? (просьб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Вы можете остаться здесь. (разрешени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Я хотел бы увидеть ее. (желани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Он может уехать скоро. (вероятно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2920" indent="-308160">
              <a:spcBef>
                <a:spcPts val="275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12920"/>
                <a:tab algn="l" pos="517680"/>
                <a:tab algn="l" pos="966960"/>
                <a:tab algn="l" pos="1415880"/>
                <a:tab algn="l" pos="1865160"/>
                <a:tab algn="l" pos="231444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6160"/>
                <a:tab algn="l" pos="5905440"/>
                <a:tab algn="l" pos="6354720"/>
                <a:tab algn="l" pos="6804000"/>
                <a:tab algn="l" pos="7253280"/>
                <a:tab algn="l" pos="7701120"/>
                <a:tab algn="l" pos="8150400"/>
                <a:tab algn="l" pos="8599320"/>
                <a:tab algn="l" pos="9048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Verdana"/>
              </a:rPr>
              <a:t>Он, наверное, в теннисном клубе сейчас. (большая вероятно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22280"/>
            <a:ext cx="9070920" cy="172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following sentences using the most appropriate forms of the verb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2200" y="2636640"/>
            <a:ext cx="8891640" cy="337500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35280" bIns="50400" anchor="t">
            <a:normAutofit/>
          </a:bodyPr>
          <a:p>
            <a:pPr marL="430200" indent="-30492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Jack has got a headache. He … sleep well recent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0492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an’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0492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ouldn’t h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0492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hasn’t been able t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02920" y="1064880"/>
            <a:ext cx="9069480" cy="150012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8080" bIns="50400" anchor="t">
            <a:normAutofit/>
          </a:bodyPr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  …  sleep for hours when I was a little girl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1039680" y="2851200"/>
            <a:ext cx="678672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m able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50520" y="1440000"/>
            <a:ext cx="9069480" cy="16970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8080" bIns="50400" anchor="t">
            <a:normAutofit/>
          </a:bodyPr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m … play tennis well but he … play a game yesterday because he was ill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968400" y="3279600"/>
            <a:ext cx="371484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uldn’t, c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an, was 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an, couldn’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68000" y="1350720"/>
            <a:ext cx="9069480" cy="169380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8080" bIns="50400" anchor="t">
            <a:normAutofit/>
          </a:bodyPr>
          <a:p>
            <a:pPr marL="341280" indent="-323640"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I didn’t want to be late for the meeting. We  …  meet at 5 sharp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968400" y="3208320"/>
            <a:ext cx="250020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were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had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c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280" y="1207800"/>
            <a:ext cx="9069480" cy="157140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8080" bIns="50400" anchor="t">
            <a:normAutofit/>
          </a:bodyPr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here are my gloves? — I  …  put them on because it’s cold today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23640">
              <a:lnSpc>
                <a:spcPct val="100000"/>
              </a:lnSpc>
              <a:spcBef>
                <a:spcPts val="275"/>
              </a:spcBef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653400" y="2994120"/>
            <a:ext cx="2779560" cy="24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ca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have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needn’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3640">
              <a:lnSpc>
                <a:spcPct val="93000"/>
              </a:lnSpc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78760"/>
                <a:tab algn="l" pos="8528040"/>
                <a:tab algn="l" pos="897732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47:36Z</dcterms:created>
  <dc:creator/>
  <dc:description/>
  <dc:language>en-US</dc:language>
  <cp:lastModifiedBy>sveta</cp:lastModifiedBy>
  <dcterms:modified xsi:type="dcterms:W3CDTF">2012-07-24T10:52:08Z</dcterms:modified>
  <cp:revision>10</cp:revision>
  <dc:subject/>
  <dc:title>Слайд 1</dc:title>
</cp:coreProperties>
</file>